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2CD6-651B-4788-A1F8-9E091B404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3FE4-AFEC-4617-9CFC-631D445B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9E62-8CF0-431E-ADEF-E5FF3B54A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1860-D22E-4957-858B-C1F3F8CDE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7130-0A0E-48F8-AB58-66CB29BBE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61C4-6E6F-44AE-A834-0337D86D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F66E-A51A-43EE-9B27-81164299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0FE3-C8B2-4B4B-8EA3-14CA9973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BD14-262A-4080-89F2-3DC1DD6D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5966-B820-4EDC-AFFE-70B355C3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69BD-95D3-4E30-9794-FEFDB490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8461-98F9-4FC3-BB8A-3D502DA4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AEF4B-8ABE-46E9-A978-11A69243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F0AA-9670-460B-8A35-3F6663C6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E0A6-F65A-4035-9428-E7FEA8F7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2059-7EC3-4A8A-9C2C-0FD35B59C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E687-DEB4-41FC-B1F8-6A3736E35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30EC-F617-402A-AF1B-FB1588B5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7839-46CA-46B5-B9A4-B3D38469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6078-00E7-4864-9EEC-FD732BC1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B074-DEC7-4DF6-A55E-D5A028A0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ADB1-1AE2-444A-B7E1-0C348270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8935-A3BB-4E9E-8328-6A3E27DE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898B-692D-4124-816D-919CB1FD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84AD-FA86-4871-8F56-08DCD3D89D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A02D-F251-483A-BDB1-4E55D0E13F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b7"/>
                </a:solidFill>
                <a:latin typeface="Arial Black"/>
              </a:rPr>
              <a:t>RESULTADOS CUESTIONARIO SOBRE LA SECCIÓN BILINGÜE EN EL I.E.S. SIERRA NEVADA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URSO 2008/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ÑO 0. PRIMER TRIMEST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b7"/>
                </a:solidFill>
                <a:latin typeface="Arial Black"/>
              </a:rPr>
              <a:t>¿Se asegura de que su hijo hace los deberes diariamente?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838080" y="1905120"/>
          <a:ext cx="800748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800748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b7"/>
                </a:solidFill>
                <a:latin typeface="Arial Black"/>
              </a:rPr>
              <a:t>¿Conoce las actividades extraescolares realizadas por la Sección Bilingüe?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838080" y="1905120"/>
          <a:ext cx="800748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800748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b7"/>
                </a:solidFill>
                <a:latin typeface="Arial Black"/>
              </a:rPr>
              <a:t>¿Cree que el Profesorado de la Sección Bilingüe está suficientemente implicado?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838080" y="1905120"/>
          <a:ext cx="800748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800748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b7"/>
                </a:solidFill>
                <a:latin typeface="Arial Black"/>
              </a:rPr>
              <a:t>¿Qué opinión le merece la presencia de los asistentes lingüísticos?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38080" y="1905120"/>
          <a:ext cx="800748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800748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b7"/>
                </a:solidFill>
                <a:latin typeface="Arial Black"/>
              </a:rPr>
              <a:t>¿Cree conveniente la participación de su hijo en actividades de intercambio? (estancia de estudios en el extranjero)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838080" y="1905120"/>
          <a:ext cx="800748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800748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b7"/>
                </a:solidFill>
                <a:latin typeface="Arial Black"/>
              </a:rPr>
              <a:t>¿Conoce los actuales resultados académicos de su hijo?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38080" y="1905120"/>
          <a:ext cx="800748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800748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b7"/>
                </a:solidFill>
                <a:latin typeface="Arial Black"/>
              </a:rPr>
              <a:t>¿Conoce si su hijo tiene algún parte de apercibimiento, falta injustificada, problema… ?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38080" y="1905120"/>
          <a:ext cx="800748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800748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b7"/>
                </a:solidFill>
                <a:latin typeface="Arial Black"/>
              </a:rPr>
              <a:t>Opiniones sobre la Sección Bilíngüe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484280"/>
            <a:ext cx="80074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l aprendizaje de idiomas es importante para sus estud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ara nuestros hijos es algo nuevo y les cuesta un po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No vienen suficientemente preparados del colegio, pero con el trabajo y esfuerzo de todos, al final los resultados serán muy positiv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 nuestros hijos les cuesta mucho y esto puede hacer que pierdan todo el interés y la motiv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¿Sabe en qué consiste un Centro Bilingü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71360" y="1908000"/>
          <a:ext cx="8912160" cy="471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1908000"/>
                    <a:ext cx="8912160" cy="47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b7"/>
                </a:solidFill>
                <a:latin typeface="Arial Black"/>
              </a:rPr>
              <a:t>¿Qué asignaturas de áreas no lingüísticas recibe su hijo en dos idiomas?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838080" y="1905120"/>
          <a:ext cx="800748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800748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b7"/>
                </a:solidFill>
                <a:latin typeface="Arial Black"/>
              </a:rPr>
              <a:t>¿Le ha hablado su hijo alguna vez de las clases bilingües?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838080" y="1905120"/>
          <a:ext cx="800748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800748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b7"/>
                </a:solidFill>
                <a:latin typeface="Arial Black"/>
              </a:rPr>
              <a:t>¿Cree que su hijo tiene una actitud positiva hacia estas clases?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838080" y="1905120"/>
          <a:ext cx="800748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800748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b7"/>
                </a:solidFill>
                <a:latin typeface="Arial Black"/>
              </a:rPr>
              <a:t>¿Ha observado alguna mejora en la actitud de su hijo hacia el aprendizaje de idiomas?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38080" y="1905120"/>
          <a:ext cx="800748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800748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b7"/>
                </a:solidFill>
                <a:latin typeface="Arial Black"/>
              </a:rPr>
              <a:t>¿Cree que los cambios introducidos en el aula son positivos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838080" y="1905120"/>
          <a:ext cx="800748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800748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b7"/>
                </a:solidFill>
                <a:latin typeface="Arial Black"/>
              </a:rPr>
              <a:t>¿Ha observado una mejor coordinación del Equipo Educativo?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838080" y="1905120"/>
          <a:ext cx="800748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800748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¿Consulta la agenda escolar de su hijo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38080" y="1905120"/>
          <a:ext cx="800748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800748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0:56:01Z</dcterms:created>
  <dc:creator>Profes</dc:creator>
  <dc:description/>
  <dc:language>en-US</dc:language>
  <cp:lastModifiedBy>Profes</cp:lastModifiedBy>
  <dcterms:modified xsi:type="dcterms:W3CDTF">2008-11-27T11:50:14Z</dcterms:modified>
  <cp:revision>11</cp:revision>
  <dc:subject/>
  <dc:title>RESULTADOS CUESTIONARIO SOBRE LA SECCIÓN BILINGÜE EN EL I.E.S. SIERRA NEVADA</dc:title>
</cp:coreProperties>
</file>